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75 S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6. Ma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isk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30400" y="1459080"/>
            <a:ext cx="7326000" cy="4196520"/>
            <a:chOff x="1130400" y="1459080"/>
            <a:chExt cx="7326000" cy="4196520"/>
          </a:xfrm>
        </p:grpSpPr>
        <p:sp>
          <p:nvSpPr>
            <p:cNvPr id="89" name=""/>
            <p:cNvSpPr/>
            <p:nvPr/>
          </p:nvSpPr>
          <p:spPr>
            <a:xfrm>
              <a:off x="1130400" y="1459080"/>
              <a:ext cx="7326000" cy="4196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4760" y="1459080"/>
              <a:ext cx="7249680" cy="41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209600" y="1646280"/>
            <a:ext cx="7269120" cy="41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: 04.03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:   22.07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:  08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: 24.03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: 26.09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:   05.01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: 21.04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:   01.11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:   02.02.0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shifted by one week due to short notice required change to 1.3MPix camera and TFT-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delivery start in 11/05 probably not feasible due to camera and display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FT display schedule is very risky. B1 samples only available in time for B1+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 of design necessary in order to reach acceptable SAR-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main PCB as Adonis to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wrt  Adonis: Liftpart PCB (Epson 732), display, camera, hinge flex, anten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of MPix-Camera, driver for TFT-display and Epson 732 to be confi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2600" y="364176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2600" y="390852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N1FZ000</cp:lastModifiedBy>
  <cp:lastPrinted>2004-02-29T14:41:19Z</cp:lastPrinted>
  <dcterms:modified xsi:type="dcterms:W3CDTF">2005-03-07T07:56:13Z</dcterms:modified>
  <cp:revision>714</cp:revision>
  <dc:subject/>
  <dc:title>PowerPoint Presentation</dc:title>
</cp:coreProperties>
</file>